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9A5-4D83-4D8A-BB49-21D588A4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40A-2896-4FE6-BF0A-6F2EEFE2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67E-4315-4287-9EAD-AB553D94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9B5-4669-4D83-B1CC-B591FD59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86A-AB93-4213-BDC1-38C953FB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D3A-2969-481C-8299-05871C3E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DA3-9A57-49C6-ABD4-FE32EDC5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D81-AAC2-4D11-8658-78300888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79A-C1F8-46A0-8C16-D1164240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886-22E0-49C0-A8FE-2E2DC7C1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135-7EBC-498C-AE31-A1D75F60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7AF-7FD1-4649-97BB-76873EDB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367B-B4F4-4342-91AD-FBF122972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7.xml"/><Relationship Id="rId4" Type="http://schemas.openxmlformats.org/officeDocument/2006/relationships/slide" Target="slide24.xml"/><Relationship Id="rId5" Type="http://schemas.openxmlformats.org/officeDocument/2006/relationships/slide" Target="slide32.xml"/><Relationship Id="rId6" Type="http://schemas.openxmlformats.org/officeDocument/2006/relationships/image" Target="../media/image2.gif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" Target="slide15.xml"/><Relationship Id="rId16" Type="http://schemas.openxmlformats.org/officeDocument/2006/relationships/slide" Target="slide31.xml"/><Relationship Id="rId1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image" Target="../media/image3.gif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gif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4.gi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file:///tmp/home/.config/libreoffice/4/user/gallery/breeze.wav" TargetMode="External"/><Relationship Id="rId3" Type="http://schemas.openxmlformats.org/officeDocument/2006/relationships/hyperlink" Target="file:///tmp/home/.config/libreoffice/4/user/gallery/breeze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ff0066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ffff00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7" action="ppaction://hlinksldjump"/>
          </p:cNvPr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8" action="ppaction://hlinksldjump"/>
          </p:cNvPr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9" action="ppaction://hlinksldjump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0" action="ppaction://hlinksldjump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1" action="ppaction://hlinksldjump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3" action="ppaction://hlinksldjump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27672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lege o parte de vorbire din propoziţia dată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4" action="ppaction://hlinksldjump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5" action="ppaction://hlinksldjump"/>
          </p:cNvPr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6" action="ppaction://hlinksldjump"/>
          </p:cNvPr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257800"/>
            <a:ext cx="1905120" cy="1066680"/>
          </a:xfrm>
          <a:custGeom>
            <a:avLst/>
            <a:gdLst>
              <a:gd name="textAreaLeft" fmla="*/ 69120 w 1905120"/>
              <a:gd name="textAreaRight" fmla="*/ 1836000 w 1905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8572" h="21600">
                <a:moveTo>
                  <a:pt x="0" y="0"/>
                </a:moveTo>
                <a:lnTo>
                  <a:pt x="38572" y="0"/>
                </a:lnTo>
                <a:lnTo>
                  <a:pt x="38572" y="21600"/>
                </a:lnTo>
                <a:lnTo>
                  <a:pt x="0" y="21600"/>
                </a:lnTo>
                <a:close/>
              </a:path>
              <a:path fill="lightenLess" w="38572" h="21600">
                <a:moveTo>
                  <a:pt x="0" y="0"/>
                </a:moveTo>
                <a:lnTo>
                  <a:pt x="38572" y="0"/>
                </a:lnTo>
                <a:lnTo>
                  <a:pt x="37173" y="1400"/>
                </a:lnTo>
                <a:lnTo>
                  <a:pt x="1400" y="1400"/>
                </a:lnTo>
                <a:close/>
              </a:path>
              <a:path fill="darken" w="38572" h="21600">
                <a:moveTo>
                  <a:pt x="38572" y="0"/>
                </a:moveTo>
                <a:lnTo>
                  <a:pt x="38572" y="21600"/>
                </a:lnTo>
                <a:lnTo>
                  <a:pt x="37173" y="20200"/>
                </a:lnTo>
                <a:lnTo>
                  <a:pt x="37173" y="1400"/>
                </a:lnTo>
                <a:close/>
              </a:path>
              <a:path fill="darkenLess" w="38572" h="21600">
                <a:moveTo>
                  <a:pt x="38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3" y="20200"/>
                </a:lnTo>
                <a:close/>
              </a:path>
              <a:path fill="lighten" w="38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Arial"/>
              </a:rPr>
              <a:t>Analiza părţ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99"/>
                </a:solidFill>
                <a:latin typeface="Arial"/>
              </a:rPr>
              <a:t>de vorbire 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Arial"/>
              </a:rPr>
              <a:t>propoziţ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5943600"/>
            <a:ext cx="0" cy="2286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258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albastre = adjec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albast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048120"/>
            <a:ext cx="121932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lastslide"/>
          </p:cNvPr>
          <p:cNvSpPr/>
          <p:nvPr/>
        </p:nvSpPr>
        <p:spPr>
          <a:xfrm>
            <a:off x="6858000" y="2666880"/>
            <a:ext cx="16002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3276720"/>
            <a:ext cx="160020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724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52578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57913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71800" y="586728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53341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4648320"/>
            <a:ext cx="3200400" cy="533160"/>
          </a:xfrm>
          <a:custGeom>
            <a:avLst/>
            <a:gdLst>
              <a:gd name="textAreaLeft" fmla="*/ 34560 w 3200400"/>
              <a:gd name="textAreaRight" fmla="*/ 3165840 w 3200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29585" h="21600">
                <a:moveTo>
                  <a:pt x="0" y="0"/>
                </a:moveTo>
                <a:lnTo>
                  <a:pt x="129585" y="0"/>
                </a:lnTo>
                <a:lnTo>
                  <a:pt x="129585" y="21600"/>
                </a:lnTo>
                <a:lnTo>
                  <a:pt x="0" y="21600"/>
                </a:lnTo>
                <a:close/>
              </a:path>
              <a:path fill="lightenLess" w="129585" h="21600">
                <a:moveTo>
                  <a:pt x="0" y="0"/>
                </a:moveTo>
                <a:lnTo>
                  <a:pt x="129585" y="0"/>
                </a:lnTo>
                <a:lnTo>
                  <a:pt x="128185" y="1400"/>
                </a:lnTo>
                <a:lnTo>
                  <a:pt x="1400" y="1400"/>
                </a:lnTo>
                <a:close/>
              </a:path>
              <a:path fill="darken" w="129585" h="21600">
                <a:moveTo>
                  <a:pt x="129585" y="0"/>
                </a:moveTo>
                <a:lnTo>
                  <a:pt x="129585" y="21600"/>
                </a:lnTo>
                <a:lnTo>
                  <a:pt x="128185" y="20200"/>
                </a:lnTo>
                <a:lnTo>
                  <a:pt x="128185" y="1400"/>
                </a:lnTo>
                <a:close/>
              </a:path>
              <a:path fill="darkenLess" w="129585" h="21600">
                <a:moveTo>
                  <a:pt x="12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85" y="20200"/>
                </a:lnTo>
                <a:close/>
              </a:path>
              <a:path fill="lighten" w="12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52578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279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albastre = adjec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albast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6858000" y="4724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2578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lastslide"/>
          </p:cNvPr>
          <p:cNvSpPr/>
          <p:nvPr/>
        </p:nvSpPr>
        <p:spPr>
          <a:xfrm>
            <a:off x="6858000" y="57913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586728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53341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4648320"/>
            <a:ext cx="3200400" cy="533160"/>
          </a:xfrm>
          <a:custGeom>
            <a:avLst/>
            <a:gdLst>
              <a:gd name="textAreaLeft" fmla="*/ 34560 w 3200400"/>
              <a:gd name="textAreaRight" fmla="*/ 3165840 w 3200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29585" h="21600">
                <a:moveTo>
                  <a:pt x="0" y="0"/>
                </a:moveTo>
                <a:lnTo>
                  <a:pt x="129585" y="0"/>
                </a:lnTo>
                <a:lnTo>
                  <a:pt x="129585" y="21600"/>
                </a:lnTo>
                <a:lnTo>
                  <a:pt x="0" y="21600"/>
                </a:lnTo>
                <a:close/>
              </a:path>
              <a:path fill="lightenLess" w="129585" h="21600">
                <a:moveTo>
                  <a:pt x="0" y="0"/>
                </a:moveTo>
                <a:lnTo>
                  <a:pt x="129585" y="0"/>
                </a:lnTo>
                <a:lnTo>
                  <a:pt x="128185" y="1400"/>
                </a:lnTo>
                <a:lnTo>
                  <a:pt x="1400" y="1400"/>
                </a:lnTo>
                <a:close/>
              </a:path>
              <a:path fill="darken" w="129585" h="21600">
                <a:moveTo>
                  <a:pt x="129585" y="0"/>
                </a:moveTo>
                <a:lnTo>
                  <a:pt x="129585" y="21600"/>
                </a:lnTo>
                <a:lnTo>
                  <a:pt x="128185" y="20200"/>
                </a:lnTo>
                <a:lnTo>
                  <a:pt x="128185" y="1400"/>
                </a:lnTo>
                <a:close/>
              </a:path>
              <a:path fill="darkenLess" w="129585" h="21600">
                <a:moveTo>
                  <a:pt x="12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85" y="20200"/>
                </a:lnTo>
                <a:close/>
              </a:path>
              <a:path fill="lighten" w="12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57800" y="52578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048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32767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0" y="27432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albastre = adjec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albast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4724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0" y="52578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0" y="57913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lastslide"/>
            <a:hlinkClick r:id="rId3"/>
          </p:cNvPr>
          <p:cNvSpPr/>
          <p:nvPr/>
        </p:nvSpPr>
        <p:spPr>
          <a:xfrm>
            <a:off x="2971800" y="586728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lastslide"/>
            <a:hlinkClick r:id="rId4"/>
          </p:cNvPr>
          <p:cNvSpPr/>
          <p:nvPr/>
        </p:nvSpPr>
        <p:spPr>
          <a:xfrm>
            <a:off x="2971800" y="53341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lastslide"/>
            <a:hlinkClick r:id="rId5"/>
          </p:cNvPr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nextslide"/>
            <a:hlinkClick r:id="rId6"/>
          </p:cNvPr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4648320"/>
            <a:ext cx="3200400" cy="533160"/>
          </a:xfrm>
          <a:custGeom>
            <a:avLst/>
            <a:gdLst>
              <a:gd name="textAreaLeft" fmla="*/ 34560 w 3200400"/>
              <a:gd name="textAreaRight" fmla="*/ 3165840 w 3200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29585" h="21600">
                <a:moveTo>
                  <a:pt x="0" y="0"/>
                </a:moveTo>
                <a:lnTo>
                  <a:pt x="129585" y="0"/>
                </a:lnTo>
                <a:lnTo>
                  <a:pt x="129585" y="21600"/>
                </a:lnTo>
                <a:lnTo>
                  <a:pt x="0" y="21600"/>
                </a:lnTo>
                <a:close/>
              </a:path>
              <a:path fill="lightenLess" w="129585" h="21600">
                <a:moveTo>
                  <a:pt x="0" y="0"/>
                </a:moveTo>
                <a:lnTo>
                  <a:pt x="129585" y="0"/>
                </a:lnTo>
                <a:lnTo>
                  <a:pt x="128185" y="1400"/>
                </a:lnTo>
                <a:lnTo>
                  <a:pt x="1400" y="1400"/>
                </a:lnTo>
                <a:close/>
              </a:path>
              <a:path fill="darken" w="129585" h="21600">
                <a:moveTo>
                  <a:pt x="129585" y="0"/>
                </a:moveTo>
                <a:lnTo>
                  <a:pt x="129585" y="21600"/>
                </a:lnTo>
                <a:lnTo>
                  <a:pt x="128185" y="20200"/>
                </a:lnTo>
                <a:lnTo>
                  <a:pt x="128185" y="1400"/>
                </a:lnTo>
                <a:close/>
              </a:path>
              <a:path fill="darkenLess" w="129585" h="21600">
                <a:moveTo>
                  <a:pt x="12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85" y="20200"/>
                </a:lnTo>
                <a:close/>
              </a:path>
              <a:path fill="lighten" w="12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52578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3048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0" y="32767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27432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albastre = adjec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lastslide"/>
          </p:cNvPr>
          <p:cNvSpPr/>
          <p:nvPr/>
        </p:nvSpPr>
        <p:spPr>
          <a:xfrm>
            <a:off x="5334120" y="5334120"/>
            <a:ext cx="129528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albast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lastslide"/>
          </p:cNvPr>
          <p:cNvSpPr/>
          <p:nvPr/>
        </p:nvSpPr>
        <p:spPr>
          <a:xfrm>
            <a:off x="5486400" y="3048120"/>
            <a:ext cx="121932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lastslide"/>
          </p:cNvPr>
          <p:cNvSpPr/>
          <p:nvPr/>
        </p:nvSpPr>
        <p:spPr>
          <a:xfrm>
            <a:off x="6858000" y="2666880"/>
            <a:ext cx="16002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lastslide"/>
          </p:cNvPr>
          <p:cNvSpPr/>
          <p:nvPr/>
        </p:nvSpPr>
        <p:spPr>
          <a:xfrm>
            <a:off x="6858000" y="3276720"/>
            <a:ext cx="160020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lastslide"/>
          </p:cNvPr>
          <p:cNvSpPr/>
          <p:nvPr/>
        </p:nvSpPr>
        <p:spPr>
          <a:xfrm>
            <a:off x="6858000" y="4800600"/>
            <a:ext cx="167652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" action="ppaction://hlinkshowjump?jump=lastslide"/>
          </p:cNvPr>
          <p:cNvSpPr/>
          <p:nvPr/>
        </p:nvSpPr>
        <p:spPr>
          <a:xfrm>
            <a:off x="6858000" y="5334120"/>
            <a:ext cx="167652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lastslide"/>
          </p:cNvPr>
          <p:cNvSpPr/>
          <p:nvPr/>
        </p:nvSpPr>
        <p:spPr>
          <a:xfrm>
            <a:off x="838080" y="4724280"/>
            <a:ext cx="36576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lastslide"/>
          </p:cNvPr>
          <p:cNvSpPr/>
          <p:nvPr/>
        </p:nvSpPr>
        <p:spPr>
          <a:xfrm>
            <a:off x="838080" y="5334120"/>
            <a:ext cx="1524240" cy="43956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lastslide"/>
          </p:cNvPr>
          <p:cNvSpPr/>
          <p:nvPr/>
        </p:nvSpPr>
        <p:spPr>
          <a:xfrm>
            <a:off x="2971800" y="5334120"/>
            <a:ext cx="1676520" cy="43956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lastslide"/>
          </p:cNvPr>
          <p:cNvSpPr/>
          <p:nvPr/>
        </p:nvSpPr>
        <p:spPr>
          <a:xfrm>
            <a:off x="838080" y="5867280"/>
            <a:ext cx="1524240" cy="439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lastslide"/>
          </p:cNvPr>
          <p:cNvSpPr/>
          <p:nvPr/>
        </p:nvSpPr>
        <p:spPr>
          <a:xfrm>
            <a:off x="2743200" y="5867280"/>
            <a:ext cx="2133720" cy="4399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 flipH="1">
            <a:off x="3428640" y="266688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336" name="">
            <a:hlinkClick r:id="" action="ppaction://hlinkshowjump?jump=nextslide"/>
          </p:cNvPr>
          <p:cNvSpPr/>
          <p:nvPr/>
        </p:nvSpPr>
        <p:spPr>
          <a:xfrm flipH="1">
            <a:off x="2133000" y="2514600"/>
            <a:ext cx="1600200" cy="533520"/>
          </a:xfrm>
          <a:prstGeom prst="wedgeEllipseCallout">
            <a:avLst>
              <a:gd name="adj1" fmla="val -64685"/>
              <a:gd name="adj2" fmla="val 79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erific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nextslide"/>
            <a:hlinkClick r:id="rId4"/>
          </p:cNvPr>
          <p:cNvSpPr/>
          <p:nvPr/>
        </p:nvSpPr>
        <p:spPr>
          <a:xfrm rot="5400000">
            <a:off x="533160" y="335268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lastslide"/>
          </p:cNvPr>
          <p:cNvSpPr/>
          <p:nvPr/>
        </p:nvSpPr>
        <p:spPr>
          <a:xfrm>
            <a:off x="6858000" y="5867280"/>
            <a:ext cx="167652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344" name=""/>
          <p:cNvSpPr/>
          <p:nvPr/>
        </p:nvSpPr>
        <p:spPr>
          <a:xfrm>
            <a:off x="4572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albast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2438280"/>
            <a:ext cx="4267080" cy="266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albast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firstslide"/>
          </p:cNvPr>
          <p:cNvSpPr/>
          <p:nvPr/>
        </p:nvSpPr>
        <p:spPr>
          <a:xfrm>
            <a:off x="762120" y="5257800"/>
            <a:ext cx="769608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= adjectiv număr plural, gen feminin, funcţia în propoziţie : atrib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6934320" y="388620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4648320"/>
            <a:ext cx="167616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lba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590920" y="3352680"/>
            <a:ext cx="1590480" cy="1600200"/>
          </a:xfrm>
          <a:prstGeom prst="rect">
            <a:avLst/>
          </a:prstGeom>
          <a:ln w="0">
            <a:noFill/>
          </a:ln>
        </p:spPr>
      </p:pic>
      <p:sp>
        <p:nvSpPr>
          <p:cNvPr id="351" name="">
            <a:hlinkClick r:id="" action="ppaction://hlinkshowjump?jump=firstslide"/>
          </p:cNvPr>
          <p:cNvSpPr/>
          <p:nvPr/>
        </p:nvSpPr>
        <p:spPr>
          <a:xfrm>
            <a:off x="4038480" y="2590920"/>
            <a:ext cx="2667240" cy="838080"/>
          </a:xfrm>
          <a:prstGeom prst="wedgeEllipseCallout">
            <a:avLst>
              <a:gd name="adj1" fmla="val -63037"/>
              <a:gd name="adj2" fmla="val 103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356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lastslide"/>
            <a:hlinkClick r:id="rId3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lastslide"/>
            <a:hlinkClick r:id="rId4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lastslide"/>
            <a:hlinkClick r:id="rId5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lastslide"/>
            <a:hlinkClick r:id="rId6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lastslide"/>
            <a:hlinkClick r:id="rId7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14400" y="327672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nextslide"/>
            <a:hlinkClick r:id="rId8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685800" y="251460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e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uvânt de legătură, precede substantivul cico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29400" y="2438280"/>
            <a:ext cx="20574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2" action="ppaction://hlinksldjump"/>
          </p:cNvPr>
          <p:cNvSpPr/>
          <p:nvPr/>
        </p:nvSpPr>
        <p:spPr>
          <a:xfrm>
            <a:off x="609480" y="1676520"/>
            <a:ext cx="746784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7010280" y="4876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6498" y="7493"/>
                </a:moveTo>
                <a:lnTo>
                  <a:pt x="10005" y="7493"/>
                </a:lnTo>
                <a:lnTo>
                  <a:pt x="10005" y="12828"/>
                </a:lnTo>
                <a:cubicBezTo>
                  <a:pt x="10005" y="13751"/>
                  <a:pt x="10806" y="14482"/>
                  <a:pt x="11842" y="14482"/>
                </a:cubicBezTo>
                <a:lnTo>
                  <a:pt x="13504" y="14482"/>
                </a:lnTo>
                <a:cubicBezTo>
                  <a:pt x="14540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4" y="7493"/>
                </a:lnTo>
                <a:lnTo>
                  <a:pt x="17012" y="3985"/>
                </a:lnTo>
                <a:lnTo>
                  <a:pt x="20685" y="7493"/>
                </a:lnTo>
                <a:lnTo>
                  <a:pt x="18848" y="7493"/>
                </a:lnTo>
                <a:lnTo>
                  <a:pt x="18848" y="12828"/>
                </a:lnTo>
                <a:cubicBezTo>
                  <a:pt x="18848" y="15596"/>
                  <a:pt x="16272" y="18155"/>
                  <a:pt x="13504" y="18155"/>
                </a:cubicBezTo>
                <a:lnTo>
                  <a:pt x="11842" y="18155"/>
                </a:lnTo>
                <a:cubicBezTo>
                  <a:pt x="9074" y="18155"/>
                  <a:pt x="6498" y="15596"/>
                  <a:pt x="6498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 flipH="1">
            <a:off x="6934320" y="2590920"/>
            <a:ext cx="1590480" cy="160020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firstslide"/>
          </p:cNvPr>
          <p:cNvSpPr/>
          <p:nvPr/>
        </p:nvSpPr>
        <p:spPr>
          <a:xfrm flipH="1">
            <a:off x="4114800" y="4114800"/>
            <a:ext cx="2666880" cy="838080"/>
          </a:xfrm>
          <a:prstGeom prst="wedgeEllipseCallout">
            <a:avLst>
              <a:gd name="adj1" fmla="val -75833"/>
              <a:gd name="adj2" fmla="val -10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392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nextslide"/>
            <a:hlinkClick r:id="rId3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lastslide"/>
            <a:hlinkClick r:id="rId4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lastslide"/>
            <a:hlinkClick r:id="rId5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lastslide"/>
            <a:hlinkClick r:id="rId6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lastslide"/>
            <a:hlinkClick r:id="rId7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14400" y="327672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cicoare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lastslide"/>
            <a:hlinkClick r:id="rId8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418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icoa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icoa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lastslide"/>
            <a:hlinkClick r:id="rId4"/>
          </p:cNvPr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442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icoa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icoa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lastslide"/>
            <a:hlinkClick r:id="rId4"/>
          </p:cNvPr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ff0066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ffff00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  <a:hlinkClick r:id="rId3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lastslide"/>
            <a:hlinkClick r:id="rId4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lastslide"/>
            <a:hlinkClick r:id="rId5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lastslide"/>
            <a:hlinkClick r:id="rId6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lastslide"/>
            <a:hlinkClick r:id="rId7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42900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fl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lastslide"/>
            <a:hlinkClick r:id="rId8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466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icoa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icoa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lastslide"/>
            <a:hlinkClick r:id="rId3"/>
          </p:cNvPr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nextslide"/>
            <a:hlinkClick r:id="rId4"/>
          </p:cNvPr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lastslide"/>
            <a:hlinkClick r:id="rId5"/>
          </p:cNvPr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490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icoa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icoa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" action="ppaction://hlinkshowjump?jump=lastslide"/>
            <a:hlinkClick r:id="rId3"/>
          </p:cNvPr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lastslide"/>
            <a:hlinkClick r:id="rId4"/>
          </p:cNvPr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" action="ppaction://hlinkshowjump?jump=nextslide"/>
            <a:hlinkClick r:id="rId5"/>
          </p:cNvPr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>
            <a:hlinkClick r:id="" action="ppaction://hlinkshowjump?jump=lastslide"/>
            <a:hlinkClick r:id="rId6"/>
          </p:cNvPr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62720" y="541008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514" name=""/>
          <p:cNvSpPr/>
          <p:nvPr/>
        </p:nvSpPr>
        <p:spPr>
          <a:xfrm>
            <a:off x="4572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icoa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icoa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62920" y="30481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162920" y="2514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38680" y="2819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2720" y="541008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7180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19520" y="58672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162920" y="37339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162920" y="42670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638680" y="3886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0" y="48769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0" y="54100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0" y="594360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 flipH="1">
            <a:off x="3428640" y="266688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nextslide"/>
            <a:hlinkClick r:id="rId3"/>
          </p:cNvPr>
          <p:cNvSpPr/>
          <p:nvPr/>
        </p:nvSpPr>
        <p:spPr>
          <a:xfrm flipH="1">
            <a:off x="2133000" y="2514600"/>
            <a:ext cx="1600200" cy="533520"/>
          </a:xfrm>
          <a:prstGeom prst="wedgeEllipseCallout">
            <a:avLst>
              <a:gd name="adj1" fmla="val -64685"/>
              <a:gd name="adj2" fmla="val 79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erific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nextslide"/>
            <a:hlinkClick r:id="rId4"/>
          </p:cNvPr>
          <p:cNvSpPr/>
          <p:nvPr/>
        </p:nvSpPr>
        <p:spPr>
          <a:xfrm rot="5400000">
            <a:off x="533160" y="335268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540" name=""/>
          <p:cNvSpPr/>
          <p:nvPr/>
        </p:nvSpPr>
        <p:spPr>
          <a:xfrm>
            <a:off x="4572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icoa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2514600"/>
            <a:ext cx="4343400" cy="2666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rId2" action="ppaction://hlinksldjump"/>
          </p:cNvPr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icoa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lastslide"/>
          </p:cNvPr>
          <p:cNvSpPr/>
          <p:nvPr/>
        </p:nvSpPr>
        <p:spPr>
          <a:xfrm>
            <a:off x="762120" y="5257800"/>
            <a:ext cx="769608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= substantiv comun, număr singular, gen feminin, funcţie în propoziţie : atribut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545" name="">
            <a:hlinkClick r:id="" action="ppaction://hlinkshowjump?jump=firstslide"/>
          </p:cNvPr>
          <p:cNvSpPr/>
          <p:nvPr/>
        </p:nvSpPr>
        <p:spPr>
          <a:xfrm>
            <a:off x="6934320" y="388620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>
            <a:hlinkClick r:id="" action="ppaction://hlinkshowjump?jump=lastslide"/>
          </p:cNvPr>
          <p:cNvSpPr/>
          <p:nvPr/>
        </p:nvSpPr>
        <p:spPr>
          <a:xfrm>
            <a:off x="533520" y="4724280"/>
            <a:ext cx="1828800" cy="439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cico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firstslide"/>
          </p:cNvPr>
          <p:cNvSpPr/>
          <p:nvPr/>
        </p:nvSpPr>
        <p:spPr>
          <a:xfrm>
            <a:off x="4038480" y="2590920"/>
            <a:ext cx="2667240" cy="838080"/>
          </a:xfrm>
          <a:prstGeom prst="wedgeEllipseCallout">
            <a:avLst>
              <a:gd name="adj1" fmla="val -63037"/>
              <a:gd name="adj2" fmla="val 103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552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ff0000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" action="ppaction://hlinkshowjump?jump=lastslide"/>
            <a:hlinkClick r:id="rId3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lastslide"/>
            <a:hlinkClick r:id="rId4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>
            <a:hlinkClick r:id="" action="ppaction://hlinkshowjump?jump=lastslide"/>
            <a:hlinkClick r:id="rId5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>
            <a:hlinkClick r:id="" action="ppaction://hlinkshowjump?jump=lastslide"/>
            <a:hlinkClick r:id="rId6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nextslide"/>
            <a:hlinkClick r:id="rId7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14400" y="327672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răsar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" action="ppaction://hlinkshowjump?jump=lastslide"/>
            <a:hlinkClick r:id="rId8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990360" cy="7444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578" name=""/>
          <p:cNvSpPr/>
          <p:nvPr/>
        </p:nvSpPr>
        <p:spPr>
          <a:xfrm>
            <a:off x="533520" y="45720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răsar =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685800" y="1295280"/>
            <a:ext cx="7467480" cy="6098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ez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re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57800" y="2514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erso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lastslide"/>
            <a:hlinkClick r:id="rId3"/>
          </p:cNvPr>
          <p:cNvSpPr/>
          <p:nvPr/>
        </p:nvSpPr>
        <p:spPr>
          <a:xfrm>
            <a:off x="7238880" y="19810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" action="ppaction://hlinkshowjump?jump=lastslide"/>
            <a:hlinkClick r:id="rId4"/>
          </p:cNvPr>
          <p:cNvSpPr/>
          <p:nvPr/>
        </p:nvSpPr>
        <p:spPr>
          <a:xfrm>
            <a:off x="7238880" y="2514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 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nextslide"/>
            <a:hlinkClick r:id="rId5"/>
          </p:cNvPr>
          <p:cNvSpPr/>
          <p:nvPr/>
        </p:nvSpPr>
        <p:spPr>
          <a:xfrm>
            <a:off x="7238880" y="3048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 I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990360" cy="7444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603" name=""/>
          <p:cNvSpPr/>
          <p:nvPr/>
        </p:nvSpPr>
        <p:spPr>
          <a:xfrm>
            <a:off x="533520" y="45720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răsar =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685800" y="1295280"/>
            <a:ext cx="7467480" cy="6098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lastslide"/>
            <a:hlinkClick r:id="rId3"/>
          </p:cNvPr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  <a:hlinkClick r:id="rId4"/>
          </p:cNvPr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ez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re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2514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erso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238880" y="19810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38880" y="2514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 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238880" y="3048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 I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990360" cy="7444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628" name=""/>
          <p:cNvSpPr/>
          <p:nvPr/>
        </p:nvSpPr>
        <p:spPr>
          <a:xfrm>
            <a:off x="533520" y="45720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răsar =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85800" y="1295280"/>
            <a:ext cx="7467480" cy="6098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ez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lastslide"/>
            <a:hlinkClick r:id="rId4"/>
          </p:cNvPr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re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lastslide"/>
            <a:hlinkClick r:id="rId5"/>
          </p:cNvPr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T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57800" y="2514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erso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19810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2514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 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048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 I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990360" cy="7444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653" name=""/>
          <p:cNvSpPr/>
          <p:nvPr/>
        </p:nvSpPr>
        <p:spPr>
          <a:xfrm>
            <a:off x="533520" y="45720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răsar =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85800" y="1295280"/>
            <a:ext cx="7467480" cy="6098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" action="ppaction://hlinkshowjump?jump=lastslide"/>
            <a:hlinkClick r:id="rId3"/>
          </p:cNvPr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" action="ppaction://hlinkshowjump?jump=nextslide"/>
            <a:hlinkClick r:id="rId4"/>
          </p:cNvPr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>
            <a:hlinkClick r:id="" action="ppaction://hlinkshowjump?jump=lastslide"/>
            <a:hlinkClick r:id="rId5"/>
          </p:cNvPr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lastslide"/>
            <a:hlinkClick r:id="rId6"/>
          </p:cNvPr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rez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re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57800" y="2514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erso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38880" y="19810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38880" y="2514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 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238880" y="3048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 I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990360" cy="7444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678" name=""/>
          <p:cNvSpPr/>
          <p:nvPr/>
        </p:nvSpPr>
        <p:spPr>
          <a:xfrm>
            <a:off x="533520" y="45720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răsar =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1295280"/>
            <a:ext cx="7467480" cy="6098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rez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re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57800" y="2514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erso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238880" y="19810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238880" y="2514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 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238880" y="3048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 I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 flipH="1">
            <a:off x="3428640" y="281952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698" name="">
            <a:hlinkClick r:id="" action="ppaction://hlinkshowjump?jump=nextslide"/>
            <a:hlinkClick r:id="rId3"/>
          </p:cNvPr>
          <p:cNvSpPr/>
          <p:nvPr/>
        </p:nvSpPr>
        <p:spPr>
          <a:xfrm flipH="1">
            <a:off x="2133000" y="2514600"/>
            <a:ext cx="1600200" cy="533520"/>
          </a:xfrm>
          <a:prstGeom prst="wedgeEllipseCallout">
            <a:avLst>
              <a:gd name="adj1" fmla="val -64685"/>
              <a:gd name="adj2" fmla="val 79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erific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nextslide"/>
            <a:hlinkClick r:id="rId4"/>
          </p:cNvPr>
          <p:cNvSpPr/>
          <p:nvPr/>
        </p:nvSpPr>
        <p:spPr>
          <a:xfrm rot="5400000">
            <a:off x="533160" y="335268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Flori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lastslide"/>
            <a:hlinkClick r:id="rId2"/>
          </p:cNvPr>
          <p:cNvSpPr/>
          <p:nvPr/>
        </p:nvSpPr>
        <p:spPr>
          <a:xfrm>
            <a:off x="5943600" y="2743200"/>
            <a:ext cx="76212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lastslide"/>
            <a:hlinkClick r:id="rId3"/>
          </p:cNvPr>
          <p:cNvSpPr/>
          <p:nvPr/>
        </p:nvSpPr>
        <p:spPr>
          <a:xfrm>
            <a:off x="7010280" y="3048120"/>
            <a:ext cx="137160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Flori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  <a:hlinkClick r:id="rId5"/>
          </p:cNvPr>
          <p:cNvSpPr/>
          <p:nvPr/>
        </p:nvSpPr>
        <p:spPr>
          <a:xfrm>
            <a:off x="7010280" y="2514600"/>
            <a:ext cx="137160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705" name=""/>
          <p:cNvSpPr/>
          <p:nvPr/>
        </p:nvSpPr>
        <p:spPr>
          <a:xfrm>
            <a:off x="4572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răsar =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362320" y="2438280"/>
            <a:ext cx="4419360" cy="266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rId2" action="ppaction://hlinksldjump"/>
          </p:cNvPr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>
            <a:hlinkClick r:id="" action="ppaction://hlinkshowjump?jump=firstslide"/>
          </p:cNvPr>
          <p:cNvSpPr/>
          <p:nvPr/>
        </p:nvSpPr>
        <p:spPr>
          <a:xfrm>
            <a:off x="762120" y="5257800"/>
            <a:ext cx="769608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= verb, persoana a III-a, număr plural, timp prezent, funcţie în propoziţie : predica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2438280" y="342900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710" name="">
            <a:hlinkClick r:id="" action="ppaction://hlinkshowjump?jump=firstslide"/>
          </p:cNvPr>
          <p:cNvSpPr/>
          <p:nvPr/>
        </p:nvSpPr>
        <p:spPr>
          <a:xfrm>
            <a:off x="6934320" y="388620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lastslide"/>
          </p:cNvPr>
          <p:cNvSpPr/>
          <p:nvPr/>
        </p:nvSpPr>
        <p:spPr>
          <a:xfrm>
            <a:off x="762120" y="4648320"/>
            <a:ext cx="137160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" action="ppaction://hlinkshowjump?jump=firstslide"/>
          </p:cNvPr>
          <p:cNvSpPr/>
          <p:nvPr/>
        </p:nvSpPr>
        <p:spPr>
          <a:xfrm>
            <a:off x="4038480" y="2590920"/>
            <a:ext cx="2667240" cy="838080"/>
          </a:xfrm>
          <a:prstGeom prst="wedgeEllipseCallout">
            <a:avLst>
              <a:gd name="adj1" fmla="val -63037"/>
              <a:gd name="adj2" fmla="val 103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718" name=""/>
          <p:cNvSpPr/>
          <p:nvPr/>
        </p:nvSpPr>
        <p:spPr>
          <a:xfrm>
            <a:off x="685800" y="251460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lângă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uvânt de legătură, precede substantivul d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629400" y="2438280"/>
            <a:ext cx="20574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>
            <a:hlinkClick r:id="rId2" action="ppaction://hlinksldjump"/>
          </p:cNvPr>
          <p:cNvSpPr/>
          <p:nvPr/>
        </p:nvSpPr>
        <p:spPr>
          <a:xfrm>
            <a:off x="609480" y="1676520"/>
            <a:ext cx="746784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lângă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>
            <a:hlinkClick r:id="" action="ppaction://hlinkshowjump?jump=firstslide"/>
          </p:cNvPr>
          <p:cNvSpPr/>
          <p:nvPr/>
        </p:nvSpPr>
        <p:spPr>
          <a:xfrm>
            <a:off x="7010280" y="4876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6498" y="7493"/>
                </a:moveTo>
                <a:lnTo>
                  <a:pt x="10005" y="7493"/>
                </a:lnTo>
                <a:lnTo>
                  <a:pt x="10005" y="12828"/>
                </a:lnTo>
                <a:cubicBezTo>
                  <a:pt x="10005" y="13751"/>
                  <a:pt x="10806" y="14482"/>
                  <a:pt x="11842" y="14482"/>
                </a:cubicBezTo>
                <a:lnTo>
                  <a:pt x="13504" y="14482"/>
                </a:lnTo>
                <a:cubicBezTo>
                  <a:pt x="14540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4" y="7493"/>
                </a:lnTo>
                <a:lnTo>
                  <a:pt x="17012" y="3985"/>
                </a:lnTo>
                <a:lnTo>
                  <a:pt x="20685" y="7493"/>
                </a:lnTo>
                <a:lnTo>
                  <a:pt x="18848" y="7493"/>
                </a:lnTo>
                <a:lnTo>
                  <a:pt x="18848" y="12828"/>
                </a:lnTo>
                <a:cubicBezTo>
                  <a:pt x="18848" y="15596"/>
                  <a:pt x="16272" y="18155"/>
                  <a:pt x="13504" y="18155"/>
                </a:cubicBezTo>
                <a:lnTo>
                  <a:pt x="11842" y="18155"/>
                </a:lnTo>
                <a:cubicBezTo>
                  <a:pt x="9074" y="18155"/>
                  <a:pt x="6498" y="15596"/>
                  <a:pt x="6498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 flipH="1">
            <a:off x="6934320" y="2590920"/>
            <a:ext cx="1590480" cy="1600200"/>
          </a:xfrm>
          <a:prstGeom prst="rect">
            <a:avLst/>
          </a:prstGeom>
          <a:ln w="0">
            <a:noFill/>
          </a:ln>
        </p:spPr>
      </p:pic>
      <p:sp>
        <p:nvSpPr>
          <p:cNvPr id="723" name="">
            <a:hlinkClick r:id="" action="ppaction://hlinkshowjump?jump=firstslide"/>
          </p:cNvPr>
          <p:cNvSpPr/>
          <p:nvPr/>
        </p:nvSpPr>
        <p:spPr>
          <a:xfrm flipH="1">
            <a:off x="4114800" y="4114800"/>
            <a:ext cx="2666880" cy="838080"/>
          </a:xfrm>
          <a:prstGeom prst="wedgeEllipseCallout">
            <a:avLst>
              <a:gd name="adj1" fmla="val -75833"/>
              <a:gd name="adj2" fmla="val -10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728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>
            <a:hlinkClick r:id="" action="ppaction://hlinkshowjump?jump=nextslide"/>
            <a:hlinkClick r:id="rId3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>
            <a:hlinkClick r:id="" action="ppaction://hlinkshowjump?jump=lastslide"/>
            <a:hlinkClick r:id="rId4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>
            <a:hlinkClick r:id="" action="ppaction://hlinkshowjump?jump=lastslide"/>
            <a:hlinkClick r:id="rId5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>
            <a:hlinkClick r:id="" action="ppaction://hlinkshowjump?jump=lastslide"/>
            <a:hlinkClick r:id="rId6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>
            <a:hlinkClick r:id="" action="ppaction://hlinkshowjump?jump=lastslide"/>
            <a:hlinkClick r:id="rId7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914400" y="327672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drum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" action="ppaction://hlinkshowjump?jump=lastslide"/>
            <a:hlinkClick r:id="rId8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92" dur="2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754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rum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>
            <a:hlinkClick r:id="" action="ppaction://hlinkshowjump?jump=lastslide"/>
            <a:hlinkClick r:id="rId4"/>
          </p:cNvPr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778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rum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lastslide"/>
            <a:hlinkClick r:id="rId4"/>
          </p:cNvPr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802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rum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lastslide"/>
            <a:hlinkClick r:id="rId3"/>
          </p:cNvPr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>
            <a:hlinkClick r:id="" action="ppaction://hlinkshowjump?jump=lastslide"/>
            <a:hlinkClick r:id="rId4"/>
          </p:cNvPr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" action="ppaction://hlinkshowjump?jump=nextslide"/>
            <a:hlinkClick r:id="rId5"/>
          </p:cNvPr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826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rum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>
            <a:hlinkClick r:id="" action="ppaction://hlinkshowjump?jump=lastslide"/>
            <a:hlinkClick r:id="rId3"/>
          </p:cNvPr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>
            <a:hlinkClick r:id="" action="ppaction://hlinkshowjump?jump=lastslide"/>
            <a:hlinkClick r:id="rId4"/>
          </p:cNvPr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>
            <a:hlinkClick r:id="" action="ppaction://hlinkshowjump?jump=lastslide"/>
            <a:hlinkClick r:id="rId5"/>
          </p:cNvPr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" action="ppaction://hlinkshowjump?jump=nextslide"/>
            <a:hlinkClick r:id="rId6"/>
          </p:cNvPr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850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rum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 flipH="1">
            <a:off x="3428640" y="281952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869" name="">
            <a:hlinkClick r:id="" action="ppaction://hlinkshowjump?jump=nextslide"/>
            <a:hlinkClick r:id="rId3"/>
          </p:cNvPr>
          <p:cNvSpPr/>
          <p:nvPr/>
        </p:nvSpPr>
        <p:spPr>
          <a:xfrm flipH="1">
            <a:off x="2133000" y="2514600"/>
            <a:ext cx="1600200" cy="533520"/>
          </a:xfrm>
          <a:prstGeom prst="wedgeEllipseCallout">
            <a:avLst>
              <a:gd name="adj1" fmla="val -64685"/>
              <a:gd name="adj2" fmla="val 79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erific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>
            <a:hlinkClick r:id="" action="ppaction://hlinkshowjump?jump=nextslide"/>
            <a:hlinkClick r:id="rId4"/>
          </p:cNvPr>
          <p:cNvSpPr/>
          <p:nvPr/>
        </p:nvSpPr>
        <p:spPr>
          <a:xfrm rot="5400000">
            <a:off x="533160" y="335268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876" name=""/>
          <p:cNvSpPr/>
          <p:nvPr/>
        </p:nvSpPr>
        <p:spPr>
          <a:xfrm>
            <a:off x="4572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rum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2438280"/>
            <a:ext cx="4419360" cy="266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rId2" action="ppaction://hlinksldjump"/>
          </p:cNvPr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>
            <a:hlinkClick r:id="" action="ppaction://hlinkshowjump?jump=lastslide"/>
          </p:cNvPr>
          <p:cNvSpPr/>
          <p:nvPr/>
        </p:nvSpPr>
        <p:spPr>
          <a:xfrm>
            <a:off x="762120" y="5257800"/>
            <a:ext cx="769608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= substantiv comun, număr singular, gen neutru, funcţie în propoziţie : complement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3"/>
          <a:stretch/>
        </p:blipFill>
        <p:spPr>
          <a:xfrm>
            <a:off x="2666880" y="342900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881" name="">
            <a:hlinkClick r:id="" action="ppaction://hlinkshowjump?jump=firstslide"/>
          </p:cNvPr>
          <p:cNvSpPr/>
          <p:nvPr/>
        </p:nvSpPr>
        <p:spPr>
          <a:xfrm>
            <a:off x="7086600" y="388620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>
            <a:hlinkClick r:id="" action="ppaction://hlinkshowjump?jump=lastslide"/>
          </p:cNvPr>
          <p:cNvSpPr/>
          <p:nvPr/>
        </p:nvSpPr>
        <p:spPr>
          <a:xfrm>
            <a:off x="533520" y="4572000"/>
            <a:ext cx="190476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lângă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>
            <a:hlinkClick r:id="" action="ppaction://hlinkshowjump?jump=firstslide"/>
          </p:cNvPr>
          <p:cNvSpPr/>
          <p:nvPr/>
        </p:nvSpPr>
        <p:spPr>
          <a:xfrm>
            <a:off x="4191120" y="2514600"/>
            <a:ext cx="2666880" cy="838080"/>
          </a:xfrm>
          <a:prstGeom prst="wedgeEllipseCallout">
            <a:avLst>
              <a:gd name="adj1" fmla="val -63037"/>
              <a:gd name="adj2" fmla="val 103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>
            <a:hlinkClick r:id="rId1" action="ppaction://hlinksldjump"/>
          </p:cNvPr>
          <p:cNvSpPr/>
          <p:nvPr/>
        </p:nvSpPr>
        <p:spPr>
          <a:xfrm>
            <a:off x="457200" y="1219320"/>
            <a:ext cx="6400800" cy="4572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Flori albastre de cicoare răsar lângă drum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" action="ppaction://hlinkshowjump?jump=lastslide"/>
          </p:cNvPr>
          <p:cNvSpPr/>
          <p:nvPr/>
        </p:nvSpPr>
        <p:spPr>
          <a:xfrm>
            <a:off x="457200" y="1828800"/>
            <a:ext cx="815328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flori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= substantiv comun, număr plural, gen feminin, funcţie în propoziţie : subiect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533520" y="5029200"/>
            <a:ext cx="1363680" cy="1371600"/>
          </a:xfrm>
          <a:prstGeom prst="rect">
            <a:avLst/>
          </a:prstGeom>
          <a:ln w="0">
            <a:noFill/>
          </a:ln>
        </p:spPr>
      </p:pic>
      <p:sp>
        <p:nvSpPr>
          <p:cNvPr id="891" name="">
            <a:hlinkClick r:id="" action="ppaction://hlinkshowjump?jump=lastslide"/>
          </p:cNvPr>
          <p:cNvSpPr/>
          <p:nvPr/>
        </p:nvSpPr>
        <p:spPr>
          <a:xfrm>
            <a:off x="457200" y="2362320"/>
            <a:ext cx="815328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lbastre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= adjectiv, număr plural, gen feminin, funcţie în propoziţie : atribut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>
            <a:hlinkClick r:id="" action="ppaction://hlinkshowjump?jump=lastslide"/>
          </p:cNvPr>
          <p:cNvSpPr/>
          <p:nvPr/>
        </p:nvSpPr>
        <p:spPr>
          <a:xfrm>
            <a:off x="457200" y="2895480"/>
            <a:ext cx="8153280" cy="6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de cicoare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= substantiv comun + cuvânt de legătură, număr singular, gen feminin, funcţie în propoziţie : atribut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>
            <a:hlinkClick r:id="" action="ppaction://hlinkshowjump?jump=lastslide"/>
          </p:cNvPr>
          <p:cNvSpPr/>
          <p:nvPr/>
        </p:nvSpPr>
        <p:spPr>
          <a:xfrm>
            <a:off x="457200" y="3657600"/>
            <a:ext cx="815328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răsar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= verb, persoana a III-a, număr plural, timp prezent, funcţie în propoziţie : predicat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>
            <a:hlinkClick r:id="" action="ppaction://hlinkshowjump?jump=lastslide"/>
          </p:cNvPr>
          <p:cNvSpPr/>
          <p:nvPr/>
        </p:nvSpPr>
        <p:spPr>
          <a:xfrm>
            <a:off x="457200" y="4191120"/>
            <a:ext cx="8153280" cy="6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lângă drum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= substantiv comun + cuvânt de legătură, număr singular, gen neutru, funcţie în propoziţie : complement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>
            <a:hlinkClick r:id="" action="ppaction://hlinkshowjump?jump=nextslide"/>
            <a:hlinkClick r:id="rId3"/>
          </p:cNvPr>
          <p:cNvSpPr/>
          <p:nvPr/>
        </p:nvSpPr>
        <p:spPr>
          <a:xfrm>
            <a:off x="2971800" y="5105520"/>
            <a:ext cx="3124080" cy="1218960"/>
          </a:xfrm>
          <a:custGeom>
            <a:avLst/>
            <a:gdLst>
              <a:gd name="textAreaLeft" fmla="*/ 78840 w 3124080"/>
              <a:gd name="textAreaRight" fmla="*/ 3045240 w 31240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55349" h="21600">
                <a:moveTo>
                  <a:pt x="0" y="0"/>
                </a:moveTo>
                <a:lnTo>
                  <a:pt x="55349" y="0"/>
                </a:lnTo>
                <a:lnTo>
                  <a:pt x="55349" y="21600"/>
                </a:lnTo>
                <a:lnTo>
                  <a:pt x="0" y="21600"/>
                </a:lnTo>
                <a:close/>
              </a:path>
              <a:path fill="lightenLess" w="55349" h="21600">
                <a:moveTo>
                  <a:pt x="0" y="0"/>
                </a:moveTo>
                <a:lnTo>
                  <a:pt x="55349" y="0"/>
                </a:lnTo>
                <a:lnTo>
                  <a:pt x="53949" y="1400"/>
                </a:lnTo>
                <a:lnTo>
                  <a:pt x="1400" y="1400"/>
                </a:lnTo>
                <a:close/>
              </a:path>
              <a:path fill="darken" w="55349" h="21600">
                <a:moveTo>
                  <a:pt x="55349" y="0"/>
                </a:moveTo>
                <a:lnTo>
                  <a:pt x="55349" y="21600"/>
                </a:lnTo>
                <a:lnTo>
                  <a:pt x="53949" y="20200"/>
                </a:lnTo>
                <a:lnTo>
                  <a:pt x="53949" y="1400"/>
                </a:lnTo>
                <a:close/>
              </a:path>
              <a:path fill="darkenLess" w="55349" h="21600">
                <a:moveTo>
                  <a:pt x="55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49" y="20200"/>
                </a:lnTo>
                <a:close/>
              </a:path>
              <a:path fill="lighten" w="55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chema propoziţiei</a:t>
            </a:r>
            <a:r>
              <a:rPr b="0" lang="ro-RO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4"/>
          <a:stretch/>
        </p:blipFill>
        <p:spPr>
          <a:xfrm flipH="1">
            <a:off x="7085160" y="5029200"/>
            <a:ext cx="1363680" cy="1371600"/>
          </a:xfrm>
          <a:prstGeom prst="rect">
            <a:avLst/>
          </a:prstGeom>
          <a:ln w="0">
            <a:noFill/>
          </a:ln>
        </p:spPr>
      </p:pic>
      <p:sp>
        <p:nvSpPr>
          <p:cNvPr id="897" name="">
            <a:hlinkClick r:id="" action="ppaction://hlinkshowjump?jump=nextslide"/>
          </p:cNvPr>
          <p:cNvSpPr/>
          <p:nvPr/>
        </p:nvSpPr>
        <p:spPr>
          <a:xfrm rot="5400000">
            <a:off x="1905120" y="54864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0" h="21600">
                <a:moveTo>
                  <a:pt x="32279" y="10800"/>
                </a:moveTo>
                <a:lnTo>
                  <a:pt x="21774" y="17806"/>
                </a:lnTo>
                <a:lnTo>
                  <a:pt x="21774" y="3794"/>
                </a:lnTo>
                <a:close/>
              </a:path>
              <a:path fill="darken" w="57560" h="21600">
                <a:moveTo>
                  <a:pt x="34124" y="3794"/>
                </a:moveTo>
                <a:lnTo>
                  <a:pt x="34124" y="17806"/>
                </a:lnTo>
                <a:lnTo>
                  <a:pt x="35787" y="17806"/>
                </a:lnTo>
                <a:lnTo>
                  <a:pt x="35787" y="37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>
            <a:hlinkClick r:id="" action="ppaction://hlinkshowjump?jump=nextslide"/>
          </p:cNvPr>
          <p:cNvSpPr/>
          <p:nvPr/>
        </p:nvSpPr>
        <p:spPr>
          <a:xfrm rot="5400000">
            <a:off x="5791320" y="54864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0" h="21600">
                <a:moveTo>
                  <a:pt x="32279" y="10800"/>
                </a:moveTo>
                <a:lnTo>
                  <a:pt x="21774" y="17806"/>
                </a:lnTo>
                <a:lnTo>
                  <a:pt x="21774" y="3794"/>
                </a:lnTo>
                <a:close/>
              </a:path>
              <a:path fill="darken" w="57560" h="21600">
                <a:moveTo>
                  <a:pt x="34124" y="3794"/>
                </a:moveTo>
                <a:lnTo>
                  <a:pt x="34124" y="17806"/>
                </a:lnTo>
                <a:lnTo>
                  <a:pt x="35787" y="17806"/>
                </a:lnTo>
                <a:lnTo>
                  <a:pt x="35787" y="37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" y="45720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5"/>
          <a:stretch/>
        </p:blipFill>
        <p:spPr>
          <a:xfrm>
            <a:off x="73152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Flori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Flori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3886200"/>
            <a:ext cx="121932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  <a:hlinkClick r:id="rId3"/>
          </p:cNvPr>
          <p:cNvSpPr/>
          <p:nvPr/>
        </p:nvSpPr>
        <p:spPr>
          <a:xfrm>
            <a:off x="6858000" y="3657600"/>
            <a:ext cx="160020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  <a:hlinkClick r:id="rId4"/>
          </p:cNvPr>
          <p:cNvSpPr/>
          <p:nvPr/>
        </p:nvSpPr>
        <p:spPr>
          <a:xfrm>
            <a:off x="6858000" y="4191120"/>
            <a:ext cx="160020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30481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514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819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4800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58672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>
            <a:hlinkClick r:id="rId1" action="ppaction://hlinksldjump"/>
          </p:cNvPr>
          <p:cNvSpPr/>
          <p:nvPr/>
        </p:nvSpPr>
        <p:spPr>
          <a:xfrm>
            <a:off x="609480" y="685800"/>
            <a:ext cx="7467840" cy="609480"/>
          </a:xfrm>
          <a:prstGeom prst="rect">
            <a:avLst/>
          </a:prstGeom>
          <a:solidFill>
            <a:srgbClr val="99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000066"/>
                </a:solidFill>
                <a:uFillTx/>
                <a:latin typeface="Arial"/>
              </a:rPr>
              <a:t>Flori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66ff"/>
                </a:solidFill>
                <a:latin typeface="Arial"/>
              </a:rPr>
              <a:t>albastre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66ff"/>
                </a:solidFill>
                <a:latin typeface="Arial"/>
              </a:rPr>
              <a:t>de cicoare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2800" spc="-1" strike="noStrike" u="sng">
                <a:solidFill>
                  <a:srgbClr val="ff0000"/>
                </a:solidFill>
                <a:uFillTx/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9900cc"/>
                </a:solidFill>
                <a:latin typeface="Arial"/>
              </a:rPr>
              <a:t>lângă 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>
            <a:hlinkClick r:id="" action="ppaction://hlinkshowjump?jump=lastslide"/>
          </p:cNvPr>
          <p:cNvSpPr/>
          <p:nvPr/>
        </p:nvSpPr>
        <p:spPr>
          <a:xfrm>
            <a:off x="1295280" y="1752480"/>
            <a:ext cx="259092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Flori  S / s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1212840" cy="1219320"/>
          </a:xfrm>
          <a:prstGeom prst="rect">
            <a:avLst/>
          </a:prstGeom>
          <a:ln w="0">
            <a:noFill/>
          </a:ln>
        </p:spPr>
      </p:pic>
      <p:sp>
        <p:nvSpPr>
          <p:cNvPr id="908" name="">
            <a:hlinkClick r:id="" action="ppaction://hlinkshowjump?jump=lastslide"/>
          </p:cNvPr>
          <p:cNvSpPr/>
          <p:nvPr/>
        </p:nvSpPr>
        <p:spPr>
          <a:xfrm>
            <a:off x="609480" y="3200400"/>
            <a:ext cx="175284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albastre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A / a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>
            <a:hlinkClick r:id="" action="ppaction://hlinkshowjump?jump=lastslide"/>
          </p:cNvPr>
          <p:cNvSpPr/>
          <p:nvPr/>
        </p:nvSpPr>
        <p:spPr>
          <a:xfrm>
            <a:off x="2666880" y="3200400"/>
            <a:ext cx="221004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de cicoare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   A /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" action="ppaction://hlinkshowjump?jump=lastslide"/>
          </p:cNvPr>
          <p:cNvSpPr/>
          <p:nvPr/>
        </p:nvSpPr>
        <p:spPr>
          <a:xfrm>
            <a:off x="5867280" y="1752480"/>
            <a:ext cx="213372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răsar   P / v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" action="ppaction://hlinkshowjump?jump=lastslide"/>
          </p:cNvPr>
          <p:cNvSpPr/>
          <p:nvPr/>
        </p:nvSpPr>
        <p:spPr>
          <a:xfrm>
            <a:off x="5867280" y="3200400"/>
            <a:ext cx="236232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9900cc"/>
                </a:solidFill>
                <a:latin typeface="Arial"/>
              </a:rPr>
              <a:t>lângă drum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   C /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 flipH="1">
            <a:off x="7238880" y="4267080"/>
            <a:ext cx="1363680" cy="137160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038480" y="198108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599840" y="2362320"/>
            <a:ext cx="114300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743200" y="2362320"/>
            <a:ext cx="9907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62120" y="1219320"/>
            <a:ext cx="7617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>
            <a:hlinkClick r:id="" action="ppaction://hlinkshowjump?jump=firstslide"/>
          </p:cNvPr>
          <p:cNvSpPr/>
          <p:nvPr/>
        </p:nvSpPr>
        <p:spPr>
          <a:xfrm>
            <a:off x="3962520" y="4267080"/>
            <a:ext cx="1600200" cy="1295640"/>
          </a:xfrm>
          <a:custGeom>
            <a:avLst/>
            <a:gdLst>
              <a:gd name="textAreaLeft" fmla="*/ 83880 w 1600200"/>
              <a:gd name="textAreaRight" fmla="*/ 1516320 w 16002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6676" h="21600">
                <a:moveTo>
                  <a:pt x="0" y="0"/>
                </a:moveTo>
                <a:lnTo>
                  <a:pt x="26676" y="0"/>
                </a:lnTo>
                <a:lnTo>
                  <a:pt x="26676" y="21600"/>
                </a:lnTo>
                <a:lnTo>
                  <a:pt x="0" y="21600"/>
                </a:lnTo>
                <a:close/>
              </a:path>
              <a:path fill="lightenLess" w="26676" h="21600">
                <a:moveTo>
                  <a:pt x="0" y="0"/>
                </a:moveTo>
                <a:lnTo>
                  <a:pt x="26676" y="0"/>
                </a:lnTo>
                <a:lnTo>
                  <a:pt x="25276" y="1400"/>
                </a:lnTo>
                <a:lnTo>
                  <a:pt x="1400" y="1400"/>
                </a:lnTo>
                <a:close/>
              </a:path>
              <a:path fill="darken" w="26676" h="21600">
                <a:moveTo>
                  <a:pt x="26676" y="0"/>
                </a:moveTo>
                <a:lnTo>
                  <a:pt x="26676" y="21600"/>
                </a:lnTo>
                <a:lnTo>
                  <a:pt x="25276" y="20200"/>
                </a:lnTo>
                <a:lnTo>
                  <a:pt x="25276" y="1400"/>
                </a:lnTo>
                <a:close/>
              </a:path>
              <a:path fill="darkenLess" w="26676" h="21600">
                <a:moveTo>
                  <a:pt x="2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76" y="20200"/>
                </a:lnTo>
                <a:close/>
              </a:path>
              <a:path fill="lighten" w="2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76" h="21600">
                <a:moveTo>
                  <a:pt x="6332" y="7493"/>
                </a:moveTo>
                <a:lnTo>
                  <a:pt x="9839" y="7493"/>
                </a:lnTo>
                <a:lnTo>
                  <a:pt x="9839" y="12828"/>
                </a:lnTo>
                <a:cubicBezTo>
                  <a:pt x="9839" y="13751"/>
                  <a:pt x="10640" y="14482"/>
                  <a:pt x="11676" y="14482"/>
                </a:cubicBezTo>
                <a:lnTo>
                  <a:pt x="13338" y="14482"/>
                </a:lnTo>
                <a:cubicBezTo>
                  <a:pt x="14374" y="14482"/>
                  <a:pt x="15174" y="13751"/>
                  <a:pt x="15174" y="12828"/>
                </a:cubicBezTo>
                <a:lnTo>
                  <a:pt x="15174" y="7493"/>
                </a:lnTo>
                <a:lnTo>
                  <a:pt x="13338" y="7493"/>
                </a:lnTo>
                <a:lnTo>
                  <a:pt x="16846" y="3985"/>
                </a:lnTo>
                <a:lnTo>
                  <a:pt x="20519" y="7493"/>
                </a:lnTo>
                <a:lnTo>
                  <a:pt x="18682" y="7493"/>
                </a:lnTo>
                <a:lnTo>
                  <a:pt x="18682" y="12828"/>
                </a:lnTo>
                <a:cubicBezTo>
                  <a:pt x="18682" y="15596"/>
                  <a:pt x="16106" y="18155"/>
                  <a:pt x="13338" y="18155"/>
                </a:cubicBezTo>
                <a:lnTo>
                  <a:pt x="11676" y="18155"/>
                </a:lnTo>
                <a:cubicBezTo>
                  <a:pt x="8908" y="18155"/>
                  <a:pt x="6332" y="15596"/>
                  <a:pt x="6332" y="12828"/>
                </a:cubicBezTo>
                <a:close/>
              </a:path>
            </a:pathLst>
          </a:custGeom>
          <a:solidFill>
            <a:srgbClr val="00ffcc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3505320" y="5791320"/>
            <a:ext cx="761760" cy="5731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2666880" y="5791320"/>
            <a:ext cx="762120" cy="5731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4343400" y="5791320"/>
            <a:ext cx="762120" cy="57312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5181480" y="5791320"/>
            <a:ext cx="762120" cy="5731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6019920" y="5791320"/>
            <a:ext cx="761760" cy="57312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828800" y="5791320"/>
            <a:ext cx="762120" cy="5731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6858000" y="5791320"/>
            <a:ext cx="762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ff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flipH="1">
            <a:off x="6629040" y="3886200"/>
            <a:ext cx="1973160" cy="1981080"/>
          </a:xfrm>
          <a:prstGeom prst="rect">
            <a:avLst/>
          </a:prstGeom>
          <a:ln w="0">
            <a:noFill/>
          </a:ln>
        </p:spPr>
      </p:pic>
      <p:sp>
        <p:nvSpPr>
          <p:cNvPr id="930" name="">
            <a:hlinkClick r:id="" action="ppaction://hlinkshowjump?jump=previousslide"/>
            <a:hlinkClick r:id="rId2"/>
          </p:cNvPr>
          <p:cNvSpPr/>
          <p:nvPr/>
        </p:nvSpPr>
        <p:spPr>
          <a:xfrm flipH="1">
            <a:off x="1218600" y="914400"/>
            <a:ext cx="4800600" cy="3657600"/>
          </a:xfrm>
          <a:prstGeom prst="wedgeEllipseCallout">
            <a:avLst>
              <a:gd name="adj1" fmla="val -63328"/>
              <a:gd name="adj2" fmla="val 51907"/>
            </a:avLst>
          </a:prstGeom>
          <a:solidFill>
            <a:srgbClr val="ff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>
            <a:hlinkClick r:id="" action="ppaction://hlinkshowjump?jump=previousslide"/>
          </p:cNvPr>
          <p:cNvSpPr/>
          <p:nvPr/>
        </p:nvSpPr>
        <p:spPr>
          <a:xfrm>
            <a:off x="1371600" y="2209680"/>
            <a:ext cx="4495680" cy="6098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GREŞEAL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>
            <a:hlinkClick r:id="" action="ppaction://hlinkshowjump?jump=previousslide"/>
          </p:cNvPr>
          <p:cNvSpPr/>
          <p:nvPr/>
        </p:nvSpPr>
        <p:spPr>
          <a:xfrm>
            <a:off x="2057400" y="2895480"/>
            <a:ext cx="3429000" cy="6098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ai 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3581280" y="4876920"/>
            <a:ext cx="2133720" cy="1371600"/>
          </a:xfrm>
          <a:custGeom>
            <a:avLst/>
            <a:gdLst>
              <a:gd name="textAreaLeft" fmla="*/ 88920 w 2133720"/>
              <a:gd name="textAreaRight" fmla="*/ 2044800 w 21337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33599" h="21600">
                <a:moveTo>
                  <a:pt x="0" y="0"/>
                </a:moveTo>
                <a:lnTo>
                  <a:pt x="33599" y="0"/>
                </a:lnTo>
                <a:lnTo>
                  <a:pt x="33599" y="21600"/>
                </a:lnTo>
                <a:lnTo>
                  <a:pt x="0" y="21600"/>
                </a:lnTo>
                <a:close/>
              </a:path>
              <a:path fill="lightenLess" w="33599" h="21600">
                <a:moveTo>
                  <a:pt x="0" y="0"/>
                </a:moveTo>
                <a:lnTo>
                  <a:pt x="33599" y="0"/>
                </a:lnTo>
                <a:lnTo>
                  <a:pt x="32199" y="1400"/>
                </a:lnTo>
                <a:lnTo>
                  <a:pt x="1400" y="1400"/>
                </a:lnTo>
                <a:close/>
              </a:path>
              <a:path fill="darken" w="33599" h="21600">
                <a:moveTo>
                  <a:pt x="33599" y="0"/>
                </a:moveTo>
                <a:lnTo>
                  <a:pt x="33599" y="21600"/>
                </a:lnTo>
                <a:lnTo>
                  <a:pt x="32199" y="20200"/>
                </a:lnTo>
                <a:lnTo>
                  <a:pt x="32199" y="1400"/>
                </a:lnTo>
                <a:close/>
              </a:path>
              <a:path fill="darkenLess" w="33599" h="21600">
                <a:moveTo>
                  <a:pt x="33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9" y="20200"/>
                </a:lnTo>
                <a:close/>
              </a:path>
              <a:path fill="lighten" w="33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9" h="21600">
                <a:moveTo>
                  <a:pt x="9793" y="7493"/>
                </a:moveTo>
                <a:lnTo>
                  <a:pt x="13300" y="7493"/>
                </a:lnTo>
                <a:lnTo>
                  <a:pt x="13300" y="12828"/>
                </a:lnTo>
                <a:cubicBezTo>
                  <a:pt x="13300" y="13751"/>
                  <a:pt x="14101" y="14482"/>
                  <a:pt x="15137" y="14482"/>
                </a:cubicBezTo>
                <a:lnTo>
                  <a:pt x="16799" y="14482"/>
                </a:lnTo>
                <a:cubicBezTo>
                  <a:pt x="17835" y="14482"/>
                  <a:pt x="18636" y="13751"/>
                  <a:pt x="18636" y="12828"/>
                </a:cubicBezTo>
                <a:lnTo>
                  <a:pt x="18636" y="7493"/>
                </a:lnTo>
                <a:lnTo>
                  <a:pt x="16799" y="7493"/>
                </a:lnTo>
                <a:lnTo>
                  <a:pt x="20307" y="3985"/>
                </a:lnTo>
                <a:lnTo>
                  <a:pt x="23980" y="7493"/>
                </a:lnTo>
                <a:lnTo>
                  <a:pt x="22143" y="7493"/>
                </a:lnTo>
                <a:lnTo>
                  <a:pt x="22143" y="12828"/>
                </a:lnTo>
                <a:cubicBezTo>
                  <a:pt x="22143" y="15596"/>
                  <a:pt x="19567" y="18155"/>
                  <a:pt x="16799" y="18155"/>
                </a:cubicBezTo>
                <a:lnTo>
                  <a:pt x="15137" y="18155"/>
                </a:lnTo>
                <a:cubicBezTo>
                  <a:pt x="12369" y="18155"/>
                  <a:pt x="9793" y="15596"/>
                  <a:pt x="9793" y="12828"/>
                </a:cubicBezTo>
                <a:close/>
              </a:path>
            </a:pathLst>
          </a:custGeom>
          <a:solidFill>
            <a:srgbClr val="ff66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705720" y="914400"/>
            <a:ext cx="1371600" cy="11844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Flori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Flori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30481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2514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2819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8672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lastslide"/>
            <a:hlinkClick r:id="rId3"/>
          </p:cNvPr>
          <p:cNvSpPr/>
          <p:nvPr/>
        </p:nvSpPr>
        <p:spPr>
          <a:xfrm>
            <a:off x="6858000" y="4800600"/>
            <a:ext cx="167652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  <a:hlinkClick r:id="rId4"/>
          </p:cNvPr>
          <p:cNvSpPr/>
          <p:nvPr/>
        </p:nvSpPr>
        <p:spPr>
          <a:xfrm>
            <a:off x="6858000" y="5334120"/>
            <a:ext cx="167652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lastslide"/>
            <a:hlinkClick r:id="rId5"/>
          </p:cNvPr>
          <p:cNvSpPr/>
          <p:nvPr/>
        </p:nvSpPr>
        <p:spPr>
          <a:xfrm>
            <a:off x="6858000" y="5867280"/>
            <a:ext cx="167652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3657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42670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3886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flori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Flori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  <a:hlinkClick r:id="rId3"/>
          </p:cNvPr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lastslide"/>
          </p:cNvPr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lastslide"/>
          </p:cNvPr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lastslide"/>
          </p:cNvPr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541008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Flori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Flori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30481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514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2819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541008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58672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37339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42670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886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48769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54100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594360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flipH="1">
            <a:off x="3428640" y="266688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  <a:hlinkClick r:id="rId3"/>
          </p:cNvPr>
          <p:cNvSpPr/>
          <p:nvPr/>
        </p:nvSpPr>
        <p:spPr>
          <a:xfrm flipH="1">
            <a:off x="2133000" y="2514600"/>
            <a:ext cx="1600200" cy="533520"/>
          </a:xfrm>
          <a:prstGeom prst="wedgeEllipseCallout">
            <a:avLst>
              <a:gd name="adj1" fmla="val -64685"/>
              <a:gd name="adj2" fmla="val 79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erific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  <a:hlinkClick r:id="rId4"/>
          </p:cNvPr>
          <p:cNvSpPr/>
          <p:nvPr/>
        </p:nvSpPr>
        <p:spPr>
          <a:xfrm rot="5400000">
            <a:off x="533160" y="335268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Flori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2514600"/>
            <a:ext cx="4572000" cy="2590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Flori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lastslide"/>
          </p:cNvPr>
          <p:cNvSpPr/>
          <p:nvPr/>
        </p:nvSpPr>
        <p:spPr>
          <a:xfrm>
            <a:off x="762120" y="5257800"/>
            <a:ext cx="769608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= substantiv comun, număr plural, gen feminin, funcţie în propoziţie : subi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362320" y="3352680"/>
            <a:ext cx="1590480" cy="160020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162920" y="3276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648320"/>
            <a:ext cx="137160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4038480" y="2590920"/>
            <a:ext cx="2667240" cy="838080"/>
          </a:xfrm>
          <a:prstGeom prst="wedgeEllipseCallout">
            <a:avLst>
              <a:gd name="adj1" fmla="val -73513"/>
              <a:gd name="adj2" fmla="val 10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lastslide"/>
            <a:hlinkClick r:id="rId3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  <a:hlinkClick r:id="rId4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lastslide"/>
            <a:hlinkClick r:id="rId5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lastslide"/>
            <a:hlinkClick r:id="rId6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lastslide"/>
            <a:hlinkClick r:id="rId7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27672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albastre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lastslide"/>
            <a:hlinkClick r:id="rId8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6:38:39Z</dcterms:created>
  <dc:creator>*Paulis</dc:creator>
  <dc:description/>
  <dc:language>en-US</dc:language>
  <cp:lastModifiedBy>*</cp:lastModifiedBy>
  <dcterms:modified xsi:type="dcterms:W3CDTF">2007-07-05T04:28:02Z</dcterms:modified>
  <cp:revision>16</cp:revision>
  <dc:subject>Flori albastre de cicoare apar langa drum.</dc:subject>
  <dc:title>Analiza partilor de vorbire</dc:title>
</cp:coreProperties>
</file>